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3229-63E7-4015-9D89-7B7D9C26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EAB1-8A81-406C-9AFD-D0018D0A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62BF-916E-44EC-8BA6-8B0B72C0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4670-715C-467D-8727-A52DC687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3201-7057-4782-ACD3-C5BEE1F6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EE11-8B03-4B02-B07B-55380C0A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8B1-5B0C-479E-BC91-FEAB238E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B7CA-2DB5-432F-937F-980FC257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BAD4-5DFC-4992-A3D8-A8D4ED47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5AA4-B365-4F29-97DC-000354D6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37E3-68E6-4F37-9757-64C8878D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C67D-25BE-4625-95BD-A2AD81A0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2A7D-5D8A-43A5-8D7E-1A77D9E47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C880-E10E-4D88-B431-9D0908FED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rget-Method Match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04920" y="1295280"/>
          <a:ext cx="8458200" cy="4356360"/>
        </p:xfrm>
        <a:graphic>
          <a:graphicData uri="http://schemas.openxmlformats.org/drawingml/2006/table">
            <a:tbl>
              <a:tblPr/>
              <a:tblGrid>
                <a:gridCol w="1708200"/>
                <a:gridCol w="1473120"/>
                <a:gridCol w="1087200"/>
                <a:gridCol w="2017800"/>
                <a:gridCol w="2171880"/>
              </a:tblGrid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ed Response &amp; Short Answ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 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led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o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5:57:37Z</dcterms:created>
  <dc:creator>ccps</dc:creator>
  <dc:description/>
  <dc:language>en-US</dc:language>
  <cp:lastModifiedBy>ccps</cp:lastModifiedBy>
  <dcterms:modified xsi:type="dcterms:W3CDTF">2010-10-13T15:58:06Z</dcterms:modified>
  <cp:revision>1</cp:revision>
  <dc:subject/>
  <dc:title>Slide 1</dc:title>
</cp:coreProperties>
</file>